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AA4E3-3F7F-4F5F-A14E-98B954A8F6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F5D1-10F9-4EC6-9CD2-06F9E686A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016B-5B84-4CDB-9E0F-FDDE1FD97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3459F-8918-4C15-93FA-1A8E6B7CC5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290D18-21A1-4114-A3EA-09CB78D04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2B3AE-E221-4C64-821D-4877E9AC20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0EFF80-E64E-4759-A02E-A6C6F578DA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000EC-B3F0-4FD8-9B0C-9EB558E69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63CAB4-B4BD-49EE-9140-0DB56CA98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58A91A-0AD7-46EE-9F38-5CC482AE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EF887-013E-420C-A78C-EC1164F72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C9DD-9920-4E19-90E4-48DED87DB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BE3ED-FD98-43A2-BE1F-0EDD8A8DF9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FAEDEC-2268-43E8-8CA6-04046EEB98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4D55E4-E669-4E13-93E9-3F8AE0713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365466-EC85-44C3-8F14-B23BAEF3E9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CBBFB-8845-4685-AF06-5746F9DF2B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E2F2-070C-4DB9-B427-18F5F987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9D5D2-3E25-4243-88E5-BA2FB51A0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F128C-E718-46AE-AEA5-EFD3667C2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DD6C-F390-4132-A2DE-45FE87E98D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210D-FEE1-4ABC-8A1C-AD0B8D857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90C17-BE6A-43C7-95E4-6BB457FDF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CCE92-B3FF-4629-8809-82CC97BF6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8BDBB8-78C2-402F-A622-FAE7812EBF9C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60AA3-742D-4B29-A18B-FF564610BCA0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0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Packet Switch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iz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rcRect l="0" t="0" r="0" b="7593"/>
          <a:stretch/>
        </p:blipFill>
        <p:spPr>
          <a:xfrm>
            <a:off x="3456000" y="0"/>
            <a:ext cx="5688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v Packet Switch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vent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0" t="0" r="0" b="6322"/>
          <a:stretch/>
        </p:blipFill>
        <p:spPr>
          <a:xfrm>
            <a:off x="914400" y="1447920"/>
            <a:ext cx="7315200" cy="53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and Internal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witching - datagrams or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station and network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tion requests logical connection (virtual circuit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packets identified as belonging to that connection &amp; sequentially number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delivers packets in seque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virtual circuit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X.2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virtual circuit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handled independent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rnal datagram ser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fferent from internal datagram ope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880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dicated route throug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handles each packet separ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erent packets for the same external virtual circuit may take different internal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buffers at destination node for re-orde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bination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treated independently by both network and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datagram, internal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does not see any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user sends one packet at a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sets up logical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8204400" cy="228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rn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11118"/>
          <a:stretch/>
        </p:blipFill>
        <p:spPr>
          <a:xfrm>
            <a:off x="3292560" y="0"/>
            <a:ext cx="58514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82844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ircuit an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6920"/>
          <a:stretch/>
        </p:blipFill>
        <p:spPr>
          <a:xfrm>
            <a:off x="3576600" y="0"/>
            <a:ext cx="55674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, crucial aspect of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racteristic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rec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ic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rn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ma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Criteri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selection of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ast c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Stallings appendix 10A for routing algorithm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nci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ircuit switching designed for vo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ources dedicated to a particular cal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ch of the time a data connection is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 is fix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th ends must operate at the same rat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sting of Rout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25468"/>
          <a:stretch/>
        </p:blipFill>
        <p:spPr>
          <a:xfrm>
            <a:off x="914400" y="1447920"/>
            <a:ext cx="7086600" cy="524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cision Time and Pla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or virtual circuit bas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l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de by each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entraliz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Information Source and Update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usually based on knowledge of network (not alway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use local knowled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llect info from all nodes on a potential rou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 info from 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date tim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is network info held by nodes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- never upd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aptive - regular upd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Strategi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permanent route for each source to destination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routes using a least cost algorithm (appendix 10A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fixed, at least until a change in network topolo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xed Rout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ab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rcRect l="0" t="0" r="0" b="7485"/>
          <a:stretch/>
        </p:blipFill>
        <p:spPr>
          <a:xfrm>
            <a:off x="3965400" y="0"/>
            <a:ext cx="5178600" cy="655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ent by node to every neighb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oming packets retransmitted on every link except incoming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tually a number of copies will arrive at dest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is uniquely numbered so duplicates can be discar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can remember packets already forwarded to keep network load in boun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include a hop count in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odin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rcRect l="0" t="0" r="0" b="8162"/>
          <a:stretch/>
        </p:blipFill>
        <p:spPr>
          <a:xfrm>
            <a:off x="4341960" y="0"/>
            <a:ext cx="480204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perties of Flo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possible routes are tri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one packet will have taken minimum hop count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used to set up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nodes ar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ful to distribute information (e.g. rout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andom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selects one outgoing path for retransmission of incoming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lection can be random or round rob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select outgoing path based on probability calc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network info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is typically not least cost nor minimum ho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asic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mitted in smal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ypically 1000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er messages split into series of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acket contains a portion of user data plus some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rol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(addressing)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received, stored briefly (buffered) and past on to the next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ore and 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by almost all packet switching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decisions change as conditions on the network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ilur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s info about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isions more comple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deoff between quality of network info an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cting too quickly can cause oscil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o slowly to be relevant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aptive Routing - 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perform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id congestion control (See chapter 1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x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realize theoretical benef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assifi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information 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l (isolat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e to outgoing link with shortest queu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include bias for each destin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51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Rarely used - do not make use of easily available info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jacent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olated Adaptive 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19396"/>
          <a:stretch/>
        </p:blipFill>
        <p:spPr>
          <a:xfrm>
            <a:off x="609480" y="1487520"/>
            <a:ext cx="7848720" cy="399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6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adap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d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llman-Ford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 exchanges delay vector with neighbo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date routing table based on incoming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n't consider line speed, just queu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eue length not a good measurement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ponds slowly to conges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9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elay as performance criter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measured dire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Dijkstra’s algorithm (appendix 10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ood under light and medium loa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little correlation between reported delays and those experienc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PANET Routing Strategies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Gene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98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cost calculations chang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 average delay over last 10 seco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ize based on current value and previous resul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97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host and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most universal on packet switched networks and packet switching in ISD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fines three lay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ysic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 between attached station and link to n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erminal equipment DTE (user equipmen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ircuit terminating equipment DCE (nod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physical layer specification X.2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transfer across physical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quence of fram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Lin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Access Protocol Balanced (LAPB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bset of HD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Pack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rcRect l="0" t="0" r="0" b="36479"/>
          <a:stretch/>
        </p:blipFill>
        <p:spPr>
          <a:xfrm>
            <a:off x="457200" y="2147760"/>
            <a:ext cx="8077320" cy="28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- Packe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rnal 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s (virtual circuits) between subscri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X.25 Use of Virtual Circui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6433"/>
          <a:stretch/>
        </p:blipFill>
        <p:spPr>
          <a:xfrm>
            <a:off x="990720" y="1371600"/>
            <a:ext cx="6933960" cy="540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ally establish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anent virtual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xed network assigned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al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9" name="" descr=""/>
          <p:cNvPicPr/>
          <p:nvPr/>
        </p:nvPicPr>
        <p:blipFill>
          <a:blip r:embed="rId1"/>
          <a:srcRect l="0" t="0" r="0" b="6350"/>
          <a:stretch/>
        </p:blipFill>
        <p:spPr>
          <a:xfrm>
            <a:off x="3556080" y="0"/>
            <a:ext cx="55879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6941"/>
          <a:stretch/>
        </p:blipFill>
        <p:spPr>
          <a:xfrm>
            <a:off x="457200" y="1371600"/>
            <a:ext cx="8153280" cy="5295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TE can establish 4095 simultaneous virtual circuits with other DTEs over a single DTC-DCE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ontain 12 bit virtual circui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 Numbe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5" name="" descr=""/>
          <p:cNvPicPr/>
          <p:nvPr/>
        </p:nvPicPr>
        <p:blipFill>
          <a:blip r:embed="rId1"/>
          <a:srcRect l="0" t="0" r="0" b="15415"/>
          <a:stretch/>
        </p:blipFill>
        <p:spPr>
          <a:xfrm>
            <a:off x="1676520" y="1371600"/>
            <a:ext cx="5790960" cy="548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and 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LS (Chapter 7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cket Sequ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plete packet sequen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longer blocks of data across network with smaller packet size without loss of block integ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 bit 1, D bit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or more A followed by 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set and Restar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initialize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s set to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in transit l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higher level protocol to recover lost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iggered by loss of packet, sequence number error, congestion, loss of network internal 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quivalent to a clear request on all virtual circu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emporary loss of network acc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vantag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e efficienc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node to node link can be shared by many packets over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queued and transmitted as fast as 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 con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tation connects to the local node at its own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des buffer data if required to equalize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are accepted even when network is bus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may slow dow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orities can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 Chapter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.25 info from ITU-T web si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information from Co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witching Techniq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breaks long message into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sent one at a time to th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handled in two way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irtual circu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treated independent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can take any practical rou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may go mi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receiver to re-order packets and recover from missing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planned route established before any packets s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l request and call accept packets establish connection (handsh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packet contains a virtual circuit identifier instead of 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outing decisions required for each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ear request to drop circu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 dedicated pa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Virtual Circuits v Dat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circu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can provide sequencing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s are forwarded more quick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routing decisions to m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ss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ss of a node looses all circuits through that n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all setup 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etter if few pack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flex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outing can be used to avoid congested parts of the networ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1T17:14:53Z</dcterms:created>
  <dc:creator>Adrian J Pullin</dc:creator>
  <dc:description/>
  <dc:language>en-US</dc:language>
  <cp:lastModifiedBy>Adrian J Pullin</cp:lastModifiedBy>
  <dcterms:modified xsi:type="dcterms:W3CDTF">1999-10-28T17:58:32Z</dcterms:modified>
  <cp:revision>37</cp:revision>
  <dc:subject/>
  <dc:title>William Stallings Data and Computer Communications</dc:title>
</cp:coreProperties>
</file>